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4CA2-329A-40FF-8656-892877B901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0A1F7-17A1-4C49-BD5B-A73A271DD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BAD1-5C1F-4482-A600-61EC4676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9429F-9EFC-43D0-93EB-4AC36CEA0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05099-0656-43E6-A577-2FFF6101D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7DA6-4303-4C51-AAAA-000FD1AB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C84DB-5186-4C88-AF0A-73297A3A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15699-9A5C-4E12-9F27-E4361BF7B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A7822-046F-4231-B3C5-4D58A6D43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1E9C-F62C-4341-839E-540EE840E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E967-FBD9-4947-BFB2-A28A7FFC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53EA-4FFF-4E5A-BE96-8ADAA7C3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818A-B6BD-4C69-92FA-EB0C13265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F76A-F82D-463E-A450-CDC5A4D26EF2}" type="datetime2">
              <a:rPr b="0" lang="ur-PK" sz="1200" spc="-1" strike="noStrike">
                <a:solidFill>
                  <a:srgbClr val="ffffff"/>
                </a:solidFill>
                <a:latin typeface="Verdana"/>
                <a:cs typeface="Arial"/>
              </a:rPr>
              <a:t>بده, 29,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506B-0A88-45A1-AE06-605A80B1B4B1}"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A88D-E35B-43D1-8B8B-F747CBA6BC3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6899-B715-4956-933D-1E81BD5CECA7}"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5AEA-94F7-4B38-A680-1B4B644985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F6E9-8D7D-49D8-95F2-7527B08D764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D74E-9B24-47F9-9A1B-2BA60D95099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2472-7E57-40ED-80D4-37CCAA1F4561}"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6861-F57B-4281-B0F5-9F1C3845B57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90DD-CC5F-48DA-85EE-8D27517DED3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7FE5-6DCE-4EB7-B3C2-0C24982D052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84AF-1EBE-40BB-ADE4-C1C3C824159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5418-1AE9-43E0-BAE8-D10368846C0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D752-1C75-4F40-B86A-82F2940A31A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69E8-3CB3-46AE-AE2B-05ADB0E99C2C}"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6165-DFAA-431F-9C70-B260DD57D2E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D853-6E5E-4223-9ECD-0C758BA8DAC3}"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A9AC-B720-4425-9872-187A6B7784D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E235-A3C8-45D7-A2A0-97947B005237}"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B796-1E2C-4D54-94C6-67B92720001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873F-1093-44DD-83DD-2CD3896F4BA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8113-DE74-4F9A-98E9-0B5C4E6CDF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17CD-3629-4753-887A-490745F240B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CF4E-9EE5-4959-ABCA-287EC5316D86}"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ABF1-67CB-4FB5-87ED-29C4556013A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28D5-5155-403C-A0D8-D2E54042758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99E4-B014-4466-BCD9-1149C29178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3A68-593E-4B4D-899F-732037A34C0D}"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1E5F-5CEA-412A-8291-D7217537691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816D-B549-43AE-A4EA-4E40A41F087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9925-29E3-4C99-A917-AEFCB3F07E5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97E0-974D-4A3E-B6D2-063B30FBFE2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3129-23AE-4AB5-8259-3AE676BD99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CAA3-16D4-4D89-81AB-AA731805E2C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8D82-1938-4AFC-8D16-ABD366F0DD1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FA2C-40DC-4D76-BE44-9FFF04CBF1E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6F6F-C94D-4BFB-B85C-75E5679BD7B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9BF9-7A36-4F2F-922B-FC3B5187E3C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891C-97C8-4FA3-BBCD-9B9C0A7CE87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625A-EBEE-47FA-9A7F-AF1BF217B921}"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F5BD-2361-4317-9CFA-FF64EDF30CB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680B-C723-43DB-8458-5BE25B1E5223}"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8B5F-D31C-41F5-B62A-10A0AAA8841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A7BE-06E8-4803-8468-2BBD3C6A457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CE61-7CDF-4FC6-81B2-1D0397894B5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7BC3-F284-429D-ADB2-3C469FCD747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5ADC-FA99-4BB7-AB2B-F421D31647E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1B85-5AFC-4A4D-86E0-FD9FBE804A57}"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EBB9-8D2E-4FF1-B3A5-CA4EA2E84EF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D4FC-65CC-425F-95BC-E8D79DA374D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C340-95E8-4487-A9A5-457D4C9E4B8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CD70-A8C3-4EF8-8612-1C84A5807B45}"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325A-68AE-4B79-8BDD-28F88A5E12C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B6A6-C010-4F85-8883-B1D33E9D09B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FD90-4746-4A76-8FEA-A07D7A47FA0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FC48-96D1-4A37-9EAF-DA5DB3FA6E7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0FED-5AD0-4594-B565-A1A14897E16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BA0E-2AE5-403F-8536-DBB6C0DDB0B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